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31C-B821-4A34-B7C2-6928CA35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C98-42D8-4162-9D6C-F121F06F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146-A557-48DA-9B07-63C36EC4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6D1-70F4-4486-AE6E-4A5228A6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58A-21A7-4701-AFAE-7EA56B2D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190-82E2-4DEB-95CB-A478699C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FFA-CA69-4679-BF6D-D1162689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B85-789C-4FF1-BDCF-FF78DB0F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E61-DFF1-4463-84E8-31CC7D56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4F1-6428-4D5F-BB39-61EA3779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523-1E01-4BE0-8A3E-502C09CF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0E5-4E72-42E2-A778-2A78088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2591-C576-479A-B9B4-D5D5BECC9B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539640" y="1413000"/>
            <a:ext cx="7561440" cy="1800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Rada Delegatów Robotniczych w Lublinie utworzona w dniu 5.11.1918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roku z inicjatywy Socjaldemokracji Królestwa Polskiego i Litwy oraz Polskiej Partii Socjalistyczn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2:00:24Z</dcterms:created>
  <dc:creator>rena</dc:creator>
  <dc:description/>
  <dc:language>en-US</dc:language>
  <cp:lastModifiedBy>rena</cp:lastModifiedBy>
  <dcterms:modified xsi:type="dcterms:W3CDTF">2013-03-05T17:53:32Z</dcterms:modified>
  <cp:revision>3</cp:revision>
  <dc:subject/>
  <dc:title>Rada Delegatów Robotniczych w Lublinie</dc:title>
</cp:coreProperties>
</file>